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3664-A5A7-4755-8E1C-D19C42971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ctic Center – Zooming in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Galactic Center – Zooming in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Infrared 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ows very high density at the Cen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E64E-245A-4A58-BFB0-697215E4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035-CB64-4949-B68E-D523CE43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6DA-6631-49DC-97C0-1806A06B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EFB-CA37-44A6-9730-9F0B418E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266C-15DA-44F0-96CC-6C7A2FD2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F1C9-FFAB-4CEB-9425-D02D786F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65A8-176B-4829-A9B6-8DE699C6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B4C3-3F9F-4733-8447-134BA947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4313-9263-446B-83C6-61522997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BC24-8F16-4D2A-9AD3-52A07420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260E-A789-4B6A-99A4-6B895BC6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9C1-1BEB-4809-AE58-256469E9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ED5A-AB3A-479E-9DE7-C8EE1F2E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88A5-A4F7-485A-8524-292E4ED3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BCC8-AFA8-4BA7-A997-B2E4F426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5A71-7723-4F5D-B10B-6BB0CFC3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669E-13B0-495C-9189-9F0D7101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AB87-7F30-41F4-AB27-B4517B7B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B76-DE7D-4787-A538-F0C04F15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2B3-79CE-49A8-B9C3-623C3268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873-0F03-4DCC-A487-ADD5BB12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379-DEA1-45B0-8F8B-3009596F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278-DEF1-409D-B1E2-0D3EB0A6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DD0-0C11-49BB-8D96-C3F5B81C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5F30-CEE4-406B-8E41-E0E4294061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E518-41DA-4BE8-8EA1-7CCE46A5E4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344600"/>
            <a:ext cx="2895480" cy="307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pter 15: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Milky Way Galaxy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6" descr="milky way optical &amp; ir"/>
          <p:cNvPicPr/>
          <p:nvPr/>
        </p:nvPicPr>
        <p:blipFill>
          <a:blip r:embed="rId1"/>
          <a:stretch/>
        </p:blipFill>
        <p:spPr>
          <a:xfrm>
            <a:off x="3352680" y="812880"/>
            <a:ext cx="6197760" cy="61974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iew Toward the Galactic Cente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3" descr="COMINS 15-06"/>
          <p:cNvPicPr/>
          <p:nvPr/>
        </p:nvPicPr>
        <p:blipFill>
          <a:blip r:embed="rId1"/>
          <a:stretch/>
        </p:blipFill>
        <p:spPr>
          <a:xfrm>
            <a:off x="1752480" y="1219320"/>
            <a:ext cx="5640480" cy="4624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 Box 4"/>
          <p:cNvSpPr/>
          <p:nvPr/>
        </p:nvSpPr>
        <p:spPr>
          <a:xfrm>
            <a:off x="1295280" y="58672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Visible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3" descr="COMINS 15-05"/>
          <p:cNvPicPr/>
          <p:nvPr/>
        </p:nvPicPr>
        <p:blipFill>
          <a:blip r:embed="rId1"/>
          <a:stretch/>
        </p:blipFill>
        <p:spPr>
          <a:xfrm>
            <a:off x="76320" y="1838160"/>
            <a:ext cx="9021600" cy="410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4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COMINS 15-12"/>
          <p:cNvPicPr/>
          <p:nvPr/>
        </p:nvPicPr>
        <p:blipFill>
          <a:blip r:embed="rId1"/>
          <a:stretch/>
        </p:blipFill>
        <p:spPr>
          <a:xfrm>
            <a:off x="152280" y="1828800"/>
            <a:ext cx="8967960" cy="429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Galactic Center – Zooming in,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in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Picture 3" descr="COMIN 15-13abc"/>
          <p:cNvPicPr/>
          <p:nvPr/>
        </p:nvPicPr>
        <p:blipFill>
          <a:blip r:embed="rId1"/>
          <a:stretch/>
        </p:blipFill>
        <p:spPr>
          <a:xfrm>
            <a:off x="90360" y="1676520"/>
            <a:ext cx="8977320" cy="4260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52" name="Text Box 4"/>
          <p:cNvSpPr/>
          <p:nvPr/>
        </p:nvSpPr>
        <p:spPr>
          <a:xfrm>
            <a:off x="2286000" y="6156360"/>
            <a:ext cx="48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Radio Wav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334200" cy="452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Text Box 5"/>
          <p:cNvSpPr/>
          <p:nvPr/>
        </p:nvSpPr>
        <p:spPr>
          <a:xfrm>
            <a:off x="1295280" y="59277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Infrared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838080" y="5927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COMINS 15-14b"/>
          <p:cNvPicPr/>
          <p:nvPr/>
        </p:nvPicPr>
        <p:blipFill>
          <a:blip r:embed="rId1"/>
          <a:stretch/>
        </p:blipFill>
        <p:spPr>
          <a:xfrm>
            <a:off x="2062080" y="914400"/>
            <a:ext cx="4872240" cy="4857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e Black Hole Area at the Center of our Galaxy might look something like this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3" descr="hubble black hole accretion disk"/>
          <p:cNvPicPr/>
          <p:nvPr/>
        </p:nvPicPr>
        <p:blipFill>
          <a:blip r:embed="rId1"/>
          <a:stretch/>
        </p:blipFill>
        <p:spPr>
          <a:xfrm>
            <a:off x="1339920" y="1600200"/>
            <a:ext cx="6508800" cy="5168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rbits of Stars in Different Parts of Our Galaxy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6" name="Picture 3" descr="FINAL COMIN 15-15"/>
          <p:cNvPicPr/>
          <p:nvPr/>
        </p:nvPicPr>
        <p:blipFill>
          <a:blip r:embed="rId1"/>
          <a:stretch/>
        </p:blipFill>
        <p:spPr>
          <a:xfrm>
            <a:off x="1828800" y="1295280"/>
            <a:ext cx="5548320" cy="457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2209680" y="609588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ur Galaxy rotates, and the center rotates faster than the outer parts do – Kepler’s 3</a:t>
            </a:r>
            <a:r>
              <a:rPr b="1" lang="en-US" sz="2800" spc="-1" strike="noStrike" baseline="30000">
                <a:solidFill>
                  <a:srgbClr val="b2b2b2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Law !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Picture 4" descr="COMINS 15-17a"/>
          <p:cNvPicPr/>
          <p:nvPr/>
        </p:nvPicPr>
        <p:blipFill>
          <a:blip r:embed="rId1"/>
          <a:stretch/>
        </p:blipFill>
        <p:spPr>
          <a:xfrm>
            <a:off x="228600" y="2108160"/>
            <a:ext cx="4259160" cy="3683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OMINS 15-17b"/>
          <p:cNvPicPr/>
          <p:nvPr/>
        </p:nvPicPr>
        <p:blipFill>
          <a:blip r:embed="rId2"/>
          <a:stretch/>
        </p:blipFill>
        <p:spPr>
          <a:xfrm>
            <a:off x="4800600" y="2092320"/>
            <a:ext cx="4159080" cy="3699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990720" y="6994440"/>
            <a:ext cx="7315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523880" y="600408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249240" y="601992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7" name="Picture 3" descr="COMINS 15-18"/>
          <p:cNvPicPr/>
          <p:nvPr/>
        </p:nvPicPr>
        <p:blipFill>
          <a:blip r:embed="rId1"/>
          <a:stretch/>
        </p:blipFill>
        <p:spPr>
          <a:xfrm>
            <a:off x="990720" y="1219320"/>
            <a:ext cx="7138800" cy="5560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How Much Dark Matter Does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ur Galaxy Have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ID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You will discover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Side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5" descr="COMINS 15-01a"/>
          <p:cNvPicPr/>
          <p:nvPr/>
        </p:nvPicPr>
        <p:blipFill>
          <a:blip r:embed="rId1"/>
          <a:stretch/>
        </p:blipFill>
        <p:spPr>
          <a:xfrm>
            <a:off x="1523880" y="1143000"/>
            <a:ext cx="6216840" cy="485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685800" y="6172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Top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90720" y="57754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milky way barred spiral"/>
          <p:cNvPicPr/>
          <p:nvPr/>
        </p:nvPicPr>
        <p:blipFill>
          <a:blip r:embed="rId1"/>
          <a:stretch/>
        </p:blipFill>
        <p:spPr>
          <a:xfrm>
            <a:off x="2306520" y="1184400"/>
            <a:ext cx="4530960" cy="4530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ow We Map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3" descr="COMINS 15-08"/>
          <p:cNvPicPr/>
          <p:nvPr/>
        </p:nvPicPr>
        <p:blipFill>
          <a:blip r:embed="rId1"/>
          <a:stretch/>
        </p:blipFill>
        <p:spPr>
          <a:xfrm>
            <a:off x="1828800" y="1219320"/>
            <a:ext cx="5448240" cy="44226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228600" y="57754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p of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3" descr="COMINS 15-09"/>
          <p:cNvPicPr/>
          <p:nvPr/>
        </p:nvPicPr>
        <p:blipFill>
          <a:blip r:embed="rId1"/>
          <a:stretch/>
        </p:blipFill>
        <p:spPr>
          <a:xfrm>
            <a:off x="0" y="1752480"/>
            <a:ext cx="9167760" cy="3656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8" name="Text Box 4"/>
          <p:cNvSpPr/>
          <p:nvPr/>
        </p:nvSpPr>
        <p:spPr>
          <a:xfrm>
            <a:off x="609480" y="57754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ow Big?  How Many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2174400"/>
            <a:ext cx="259092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COMINS 15-11"/>
          <p:cNvPicPr/>
          <p:nvPr/>
        </p:nvPicPr>
        <p:blipFill>
          <a:blip r:embed="rId1"/>
          <a:stretch/>
        </p:blipFill>
        <p:spPr>
          <a:xfrm>
            <a:off x="4191120" y="38160"/>
            <a:ext cx="4030560" cy="681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What Kinds of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COMINS 15-11"/>
          <p:cNvPicPr/>
          <p:nvPr/>
        </p:nvPicPr>
        <p:blipFill>
          <a:blip r:embed="rId1"/>
          <a:stretch/>
        </p:blipFill>
        <p:spPr>
          <a:xfrm>
            <a:off x="4191120" y="25560"/>
            <a:ext cx="4039920" cy="6832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8:35:13Z</dcterms:created>
  <dc:creator>Dr. Mark Hollabaugh</dc:creator>
  <dc:description/>
  <dc:language>en-US</dc:language>
  <cp:lastModifiedBy>Legion</cp:lastModifiedBy>
  <dcterms:modified xsi:type="dcterms:W3CDTF">2017-01-26T14:01:38Z</dcterms:modified>
  <cp:revision>40</cp:revision>
  <dc:subject/>
  <dc:title>Chapter 15: The Milky Way Galaxy</dc:title>
</cp:coreProperties>
</file>